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B4E9-741D-411F-B4B2-3A30FC50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6236-9CEC-4EF3-ABB4-D7235DA9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9945-D0C5-4085-BB9B-20C75471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DCAA-24BB-435F-B418-245166E4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ED34-71A2-4858-ADA8-B9A00761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4F25-F311-4DE4-A95F-C753CA8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AD7A-3D93-41E6-9934-D1ACCB51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F697-418F-4A4B-8936-2C403794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FFB3-0C19-4B97-B9DC-C45E42A9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A3DD-E7E9-437B-B0AD-0D8761ED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9AE0-8B82-428F-B8FA-83D7127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E946-1D4C-4AF9-934F-D320DAD8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FA83-A8C5-4A27-973C-A6E2130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6EF0-229D-46A3-8F28-CD6C83AD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A327-AD1B-438D-B388-2F4A1BD5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9F98-6B0E-42B5-B7CA-791DC49C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96BF-1A4E-4425-B1D6-FD544060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74126-FBDD-4D5E-BBC6-139B707C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5766-A608-44BD-8FB2-13784BEB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D824-D7D6-426D-90C9-BE7ADDA6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C0E3-8F21-4846-ACF6-715F5389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7301-A64B-42F0-A483-57247B2C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91C8-9E67-40B7-97C3-26E74719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076B-484E-40F7-8A7C-47D2E005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6512-F290-48D4-A013-6D1BAB901F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3289-B4FC-468C-9F61-282FABAE11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atadragon.com/education/reading/midi/whole.mid" TargetMode="External"/><Relationship Id="rId2" Type="http://schemas.openxmlformats.org/officeDocument/2006/relationships/hyperlink" Target="http://datadragon.com/education/reading/midi/half.mid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w to Read Music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ef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reble clef:  Higher pitch or sound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ass clef:   Lower Pitch or s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7010280" cy="606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70866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Time Signatu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signatures tell you how many and what kind of notes per measure there a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mber on top is the number of notes per measure, and the bottom number is what kind of no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/4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quarter notes per measur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/4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quarter notes per mea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Types of Notes: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whole note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n egg on its side, either with a line through it or not.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half not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he same as a whole not but with a vertical line attached to it.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quarter note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same as a half note except the circle is filled in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743200" y="1371600"/>
            <a:ext cx="3124080" cy="716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819520" y="2819520"/>
            <a:ext cx="3047760" cy="831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895480" y="4267080"/>
            <a:ext cx="28958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Types of Rests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whole rest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ark rectangle attached to a bar line, facing downwards.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1 shown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half rest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ark rectangle attached to a bar line, facing upwards.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2 shown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quarter rest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quiggly line.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4 shown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581280" cy="772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581280" cy="809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191120"/>
            <a:ext cx="35053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ry clapping these not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n a keyboard, the white keys are the "natural" notes,   and the black keys are the "sharp" and "flat" notes.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124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ading notes: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Treble Clef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taff is made up of five horizontal lines and four spa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e will begin with a staff that shows the notes that correspond to the spaces within it. The notes are spelled F, A, C, 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Reading from bottom to top the notes are F, A, C,E"/>
          <p:cNvPicPr/>
          <p:nvPr/>
        </p:nvPicPr>
        <p:blipFill>
          <a:blip r:embed="rId1"/>
          <a:stretch/>
        </p:blipFill>
        <p:spPr>
          <a:xfrm>
            <a:off x="5791320" y="19051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40384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ading notes: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Treble Clef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xt photo show the notes that rest on the lines. These notes are E, G, B, D, F. (E)very (G)ood (B)oy (D)oes (F)i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985920" y="3191040"/>
            <a:ext cx="11736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28440" tIns="85680" bIns="85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fa641"/>
                </a:solidFill>
                <a:latin typeface="Georgia"/>
                <a:ea typeface="Arial"/>
              </a:rPr>
              <a:t>  </a:t>
            </a:r>
            <a:r>
              <a:rPr b="0" lang="en-US" sz="1200" spc="-1" strike="noStrike">
                <a:solidFill>
                  <a:srgbClr val="dfa641"/>
                </a:solidFill>
                <a:latin typeface="Georgia"/>
                <a:ea typeface="Arial"/>
              </a:rPr>
              <a:t> </a:t>
            </a:r>
            <a:r>
              <a:rPr b="0" lang="en-US" sz="800" spc="-1" strike="noStrike">
                <a:solidFill>
                  <a:srgbClr val="dfa641"/>
                </a:solidFill>
                <a:latin typeface="Georgia"/>
                <a:ea typeface="Arial"/>
              </a:rPr>
              <a:t>                                     </a:t>
            </a:r>
            <a:r>
              <a:rPr b="0" lang="en-US" sz="700" spc="-1" strike="noStrike">
                <a:solidFill>
                  <a:srgbClr val="0364a4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Reading from bottom to top the notes are E,G,B,D,F"/>
          <p:cNvPicPr/>
          <p:nvPr/>
        </p:nvPicPr>
        <p:blipFill>
          <a:blip r:embed="rId1"/>
          <a:stretch/>
        </p:blipFill>
        <p:spPr>
          <a:xfrm>
            <a:off x="5867280" y="4267080"/>
            <a:ext cx="2587680" cy="5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4038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03:04Z</dcterms:created>
  <dc:creator>Emily McLaughlin</dc:creator>
  <dc:description/>
  <dc:language>en-US</dc:language>
  <cp:lastModifiedBy>Office 2004 Test Drive User</cp:lastModifiedBy>
  <cp:lastPrinted>2009-04-22T19:24:48Z</cp:lastPrinted>
  <dcterms:modified xsi:type="dcterms:W3CDTF">2009-02-12T22:37:32Z</dcterms:modified>
  <cp:revision>5</cp:revision>
  <dc:subject/>
  <dc:title>How to Read Mus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